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90B3-5E9E-4C56-86EC-B79C76FEE733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3D1A-5D26-4963-BFAA-B6103D46D76A}" type="slidenum">
              <a:rPr b="0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9DCA-D0CE-46B5-85CA-F4CBD8AD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C2C-D697-43D0-8701-02F0CCC5C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500D-1865-44E7-8D89-9B601849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CF7-52A6-4922-BAE0-E3C3670E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D881-5CD0-4DEB-A0B2-F4382F79A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224B-9167-40AB-9941-529C34ED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EAF7-42EE-4754-BDDF-64CED274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01E8-C5C3-401C-B86A-ABEF1741C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67C8-5B92-45AE-BCF1-D3F220126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09E5-FF49-47D0-A3C9-EB15E8C8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FA0C-6B1C-43BB-A926-5C1AFB19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1865-5902-4216-BE6A-DB76C7E6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863E-A540-4E86-81D5-560DEA02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896B0-AE00-455D-8F6D-5750565B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9215-799A-48FC-A235-B5DE9E0B6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527EC-A70E-4993-873C-39D3B869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860C-CA29-491B-B13D-B6CB45265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2DC-CCAA-4D2B-A1EC-8831F32D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F18-D69F-4667-BABD-40D3265E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4DE-5128-4456-B64A-ABBE1724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DAF-2BA2-4174-9A89-A3AE90E12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765-337F-4B8B-B9F4-71A34148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1B0C-6A2E-4197-A1FF-21AA4C68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8B70-152C-4377-A5BD-9BFB1FEF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1800"/>
                <a:ext cx="1834200" cy="1667520"/>
                <a:chOff x="852120" y="4051800"/>
                <a:chExt cx="1834200" cy="16675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71880" y="3936600"/>
                  <a:ext cx="477360" cy="123948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58360" y="4978440"/>
                  <a:ext cx="110520" cy="50868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499840" y="5567400"/>
                  <a:ext cx="200880" cy="856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A9EE-6620-4828-AA92-83456022869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8640" y="62280"/>
              <a:ext cx="3621600" cy="6130440"/>
              <a:chOff x="5408640" y="62280"/>
              <a:chExt cx="3621600" cy="61304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160" y="347400"/>
                <a:ext cx="2116800" cy="235260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040" y="1957680"/>
                <a:ext cx="906840" cy="84132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9120"/>
                <a:ext cx="439920" cy="39420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480" y="674640"/>
                <a:ext cx="388800" cy="55044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5280" y="2648880"/>
                <a:ext cx="163440" cy="33084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560" y="1243440"/>
                <a:ext cx="190440" cy="14256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8200" y="2936160"/>
                <a:ext cx="523800" cy="326232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6600" y="305640"/>
              <a:ext cx="888120" cy="826200"/>
              <a:chOff x="5646600" y="305640"/>
              <a:chExt cx="888120" cy="82620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8560" y="802800"/>
                <a:ext cx="17604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080" y="478800"/>
                <a:ext cx="30132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8520" y="403920"/>
                <a:ext cx="31500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40600"/>
              <a:chOff x="954000" y="5282640"/>
              <a:chExt cx="1062360" cy="8406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8120" y="5546520"/>
                <a:ext cx="251640" cy="3027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5480" y="5765760"/>
                <a:ext cx="430560" cy="2516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720" y="5407200"/>
                <a:ext cx="450000" cy="128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2A06-A47C-4B27-9721-822B2A16A38A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6.xml"/><Relationship Id="rId3" Type="http://schemas.openxmlformats.org/officeDocument/2006/relationships/slide" Target="slide22.xml"/><Relationship Id="rId4" Type="http://schemas.openxmlformats.org/officeDocument/2006/relationships/slide" Target="slide24.xml"/><Relationship Id="rId5" Type="http://schemas.openxmlformats.org/officeDocument/2006/relationships/slide" Target="slide2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7.xml"/><Relationship Id="rId12" Type="http://schemas.openxmlformats.org/officeDocument/2006/relationships/slide" Target="slide20.xml"/><Relationship Id="rId13" Type="http://schemas.openxmlformats.org/officeDocument/2006/relationships/slide" Target="slide21.xml"/><Relationship Id="rId14" Type="http://schemas.openxmlformats.org/officeDocument/2006/relationships/slide" Target="slide5.xml"/><Relationship Id="rId15" Type="http://schemas.openxmlformats.org/officeDocument/2006/relationships/slide" Target="slide6.xml"/><Relationship Id="rId16" Type="http://schemas.openxmlformats.org/officeDocument/2006/relationships/slide" Target="slide4.xml"/><Relationship Id="rId17" Type="http://schemas.openxmlformats.org/officeDocument/2006/relationships/slide" Target="slide3.xml"/><Relationship Id="rId18" Type="http://schemas.openxmlformats.org/officeDocument/2006/relationships/slide" Target="slide18.xml"/><Relationship Id="rId19" Type="http://schemas.openxmlformats.org/officeDocument/2006/relationships/slide" Target="slide2.xml"/><Relationship Id="rId20" Type="http://schemas.openxmlformats.org/officeDocument/2006/relationships/slide" Target="slide19.xml"/><Relationship Id="rId21" Type="http://schemas.openxmlformats.org/officeDocument/2006/relationships/slide" Target="slide8.xml"/><Relationship Id="rId22" Type="http://schemas.openxmlformats.org/officeDocument/2006/relationships/slide" Target="slide7.xml"/><Relationship Id="rId23" Type="http://schemas.openxmlformats.org/officeDocument/2006/relationships/slide" Target="slide10.xml"/><Relationship Id="rId24" Type="http://schemas.openxmlformats.org/officeDocument/2006/relationships/slide" Target="slide9.xml"/><Relationship Id="rId25" Type="http://schemas.openxmlformats.org/officeDocument/2006/relationships/slide" Target="slide11.xm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0"/>
          <p:cNvSpPr/>
          <p:nvPr/>
        </p:nvSpPr>
        <p:spPr>
          <a:xfrm>
            <a:off x="179280" y="5661000"/>
            <a:ext cx="2519640" cy="93492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4920"/>
              <a:gd name="textAreaBottom" fmla="*/ 874440 h 934920"/>
            </a:gdLst>
            <a:ahLst/>
            <a:rect l="textAreaLeft" t="textAreaTop" r="textAreaRight" b="textAreaBottom"/>
            <a:pathLst>
              <a:path w="58199" h="21600">
                <a:moveTo>
                  <a:pt x="0" y="0"/>
                </a:moveTo>
                <a:lnTo>
                  <a:pt x="58199" y="0"/>
                </a:lnTo>
                <a:lnTo>
                  <a:pt x="58199" y="21600"/>
                </a:lnTo>
                <a:lnTo>
                  <a:pt x="0" y="21600"/>
                </a:lnTo>
                <a:close/>
              </a:path>
              <a:path fill="lightenLess" w="58199" h="21600">
                <a:moveTo>
                  <a:pt x="0" y="0"/>
                </a:moveTo>
                <a:lnTo>
                  <a:pt x="58199" y="0"/>
                </a:lnTo>
                <a:lnTo>
                  <a:pt x="56799" y="1400"/>
                </a:lnTo>
                <a:lnTo>
                  <a:pt x="1400" y="1400"/>
                </a:lnTo>
                <a:close/>
              </a:path>
              <a:path fill="darken" w="58199" h="21600">
                <a:moveTo>
                  <a:pt x="58199" y="0"/>
                </a:moveTo>
                <a:lnTo>
                  <a:pt x="58199" y="21600"/>
                </a:lnTo>
                <a:lnTo>
                  <a:pt x="56799" y="20200"/>
                </a:lnTo>
                <a:lnTo>
                  <a:pt x="56799" y="1400"/>
                </a:lnTo>
                <a:close/>
              </a:path>
              <a:path fill="darkenLess" w="58199" h="21600">
                <a:moveTo>
                  <a:pt x="58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99" y="20200"/>
                </a:lnTo>
                <a:close/>
              </a:path>
              <a:path fill="lighten" w="58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Здоровое питание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AutoShape 16"/>
          <p:cNvSpPr/>
          <p:nvPr/>
        </p:nvSpPr>
        <p:spPr>
          <a:xfrm>
            <a:off x="179280" y="4437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редные привычки</a:t>
            </a:r>
            <a:endParaRPr b="1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179280" y="3213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Спорт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AutoShape 20"/>
          <p:cNvSpPr/>
          <p:nvPr/>
        </p:nvSpPr>
        <p:spPr>
          <a:xfrm>
            <a:off x="291636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AutoShape 22"/>
          <p:cNvSpPr/>
          <p:nvPr/>
        </p:nvSpPr>
        <p:spPr>
          <a:xfrm>
            <a:off x="421164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24"/>
          <p:cNvSpPr/>
          <p:nvPr/>
        </p:nvSpPr>
        <p:spPr>
          <a:xfrm>
            <a:off x="5505480" y="4581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26"/>
          <p:cNvSpPr/>
          <p:nvPr/>
        </p:nvSpPr>
        <p:spPr>
          <a:xfrm>
            <a:off x="179280" y="1989000"/>
            <a:ext cx="2521080" cy="935280"/>
          </a:xfrm>
          <a:custGeom>
            <a:avLst/>
            <a:gdLst>
              <a:gd name="textAreaLeft" fmla="*/ 60480 w 2521080"/>
              <a:gd name="textAreaRight" fmla="*/ 2460600 w 252108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209" h="21600">
                <a:moveTo>
                  <a:pt x="0" y="0"/>
                </a:moveTo>
                <a:lnTo>
                  <a:pt x="58209" y="0"/>
                </a:lnTo>
                <a:lnTo>
                  <a:pt x="58209" y="21600"/>
                </a:lnTo>
                <a:lnTo>
                  <a:pt x="0" y="21600"/>
                </a:lnTo>
                <a:close/>
              </a:path>
              <a:path fill="lightenLess" w="58209" h="21600">
                <a:moveTo>
                  <a:pt x="0" y="0"/>
                </a:moveTo>
                <a:lnTo>
                  <a:pt x="58209" y="0"/>
                </a:lnTo>
                <a:lnTo>
                  <a:pt x="56810" y="1400"/>
                </a:lnTo>
                <a:lnTo>
                  <a:pt x="1400" y="1400"/>
                </a:lnTo>
                <a:close/>
              </a:path>
              <a:path fill="darken" w="58209" h="21600">
                <a:moveTo>
                  <a:pt x="58209" y="0"/>
                </a:moveTo>
                <a:lnTo>
                  <a:pt x="58209" y="21600"/>
                </a:lnTo>
                <a:lnTo>
                  <a:pt x="56810" y="20200"/>
                </a:lnTo>
                <a:lnTo>
                  <a:pt x="56810" y="1400"/>
                </a:lnTo>
                <a:close/>
              </a:path>
              <a:path fill="darkenLess" w="58209" h="21600">
                <a:moveTo>
                  <a:pt x="582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810" y="20200"/>
                </a:lnTo>
                <a:close/>
              </a:path>
              <a:path fill="lighten" w="582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ервая помощь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27"/>
          <p:cNvSpPr/>
          <p:nvPr/>
        </p:nvSpPr>
        <p:spPr>
          <a:xfrm>
            <a:off x="6800760" y="458136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AutoShape 28"/>
          <p:cNvSpPr/>
          <p:nvPr/>
        </p:nvSpPr>
        <p:spPr>
          <a:xfrm>
            <a:off x="8024760" y="4581360"/>
            <a:ext cx="1006560" cy="719280"/>
          </a:xfrm>
          <a:custGeom>
            <a:avLst/>
            <a:gdLst>
              <a:gd name="textAreaLeft" fmla="*/ 46440 w 1006560"/>
              <a:gd name="textAreaRight" fmla="*/ 960120 w 100656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23" h="21600">
                <a:moveTo>
                  <a:pt x="0" y="0"/>
                </a:moveTo>
                <a:lnTo>
                  <a:pt x="30223" y="0"/>
                </a:lnTo>
                <a:lnTo>
                  <a:pt x="30223" y="21600"/>
                </a:lnTo>
                <a:lnTo>
                  <a:pt x="0" y="21600"/>
                </a:lnTo>
                <a:close/>
              </a:path>
              <a:path fill="lightenLess" w="30223" h="21600">
                <a:moveTo>
                  <a:pt x="0" y="0"/>
                </a:moveTo>
                <a:lnTo>
                  <a:pt x="30223" y="0"/>
                </a:lnTo>
                <a:lnTo>
                  <a:pt x="28823" y="1400"/>
                </a:lnTo>
                <a:lnTo>
                  <a:pt x="1400" y="1400"/>
                </a:lnTo>
                <a:close/>
              </a:path>
              <a:path fill="darken" w="30223" h="21600">
                <a:moveTo>
                  <a:pt x="30223" y="0"/>
                </a:moveTo>
                <a:lnTo>
                  <a:pt x="30223" y="21600"/>
                </a:lnTo>
                <a:lnTo>
                  <a:pt x="28823" y="20200"/>
                </a:lnTo>
                <a:lnTo>
                  <a:pt x="28823" y="1400"/>
                </a:lnTo>
                <a:close/>
              </a:path>
              <a:path fill="darkenLess" w="30223" h="21600">
                <a:moveTo>
                  <a:pt x="302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3" y="20200"/>
                </a:lnTo>
                <a:close/>
              </a:path>
              <a:path fill="lighten" w="302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AutoShape 31"/>
          <p:cNvSpPr/>
          <p:nvPr/>
        </p:nvSpPr>
        <p:spPr>
          <a:xfrm>
            <a:off x="179280" y="765000"/>
            <a:ext cx="2519640" cy="935280"/>
          </a:xfrm>
          <a:custGeom>
            <a:avLst/>
            <a:gdLst>
              <a:gd name="textAreaLeft" fmla="*/ 60480 w 2519640"/>
              <a:gd name="textAreaRight" fmla="*/ 2459160 w 2519640"/>
              <a:gd name="textAreaTop" fmla="*/ 60480 h 935280"/>
              <a:gd name="textAreaBottom" fmla="*/ 874800 h 935280"/>
            </a:gdLst>
            <a:ahLst/>
            <a:rect l="textAreaLeft" t="textAreaTop" r="textAreaRight" b="textAreaBottom"/>
            <a:pathLst>
              <a:path w="58176" h="21600">
                <a:moveTo>
                  <a:pt x="0" y="0"/>
                </a:moveTo>
                <a:lnTo>
                  <a:pt x="58176" y="0"/>
                </a:lnTo>
                <a:lnTo>
                  <a:pt x="58176" y="21600"/>
                </a:lnTo>
                <a:lnTo>
                  <a:pt x="0" y="21600"/>
                </a:lnTo>
                <a:close/>
              </a:path>
              <a:path fill="lightenLess" w="58176" h="21600">
                <a:moveTo>
                  <a:pt x="0" y="0"/>
                </a:moveTo>
                <a:lnTo>
                  <a:pt x="58176" y="0"/>
                </a:lnTo>
                <a:lnTo>
                  <a:pt x="56776" y="1400"/>
                </a:lnTo>
                <a:lnTo>
                  <a:pt x="1400" y="1400"/>
                </a:lnTo>
                <a:close/>
              </a:path>
              <a:path fill="darken" w="58176" h="21600">
                <a:moveTo>
                  <a:pt x="58176" y="0"/>
                </a:moveTo>
                <a:lnTo>
                  <a:pt x="58176" y="21600"/>
                </a:lnTo>
                <a:lnTo>
                  <a:pt x="56776" y="20200"/>
                </a:lnTo>
                <a:lnTo>
                  <a:pt x="56776" y="1400"/>
                </a:lnTo>
                <a:close/>
              </a:path>
              <a:path fill="darkenLess" w="58176" h="21600">
                <a:moveTo>
                  <a:pt x="581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776" y="20200"/>
                </a:lnTo>
                <a:close/>
              </a:path>
              <a:path fill="lighten" w="581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Здоровье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291636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6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AutoShape 33"/>
          <p:cNvSpPr/>
          <p:nvPr/>
        </p:nvSpPr>
        <p:spPr>
          <a:xfrm>
            <a:off x="4211640" y="33577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7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34"/>
          <p:cNvSpPr/>
          <p:nvPr/>
        </p:nvSpPr>
        <p:spPr>
          <a:xfrm>
            <a:off x="550548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8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AutoShape 35"/>
          <p:cNvSpPr/>
          <p:nvPr/>
        </p:nvSpPr>
        <p:spPr>
          <a:xfrm>
            <a:off x="6800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9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8" name="AutoShape 36"/>
          <p:cNvSpPr/>
          <p:nvPr/>
        </p:nvSpPr>
        <p:spPr>
          <a:xfrm>
            <a:off x="8024760" y="3357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9" name="AutoShape 38"/>
          <p:cNvSpPr/>
          <p:nvPr/>
        </p:nvSpPr>
        <p:spPr>
          <a:xfrm>
            <a:off x="29163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AutoShape 44"/>
          <p:cNvSpPr/>
          <p:nvPr/>
        </p:nvSpPr>
        <p:spPr>
          <a:xfrm>
            <a:off x="421164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AutoShape 45"/>
          <p:cNvSpPr/>
          <p:nvPr/>
        </p:nvSpPr>
        <p:spPr>
          <a:xfrm>
            <a:off x="550548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AutoShape 48"/>
          <p:cNvSpPr/>
          <p:nvPr/>
        </p:nvSpPr>
        <p:spPr>
          <a:xfrm>
            <a:off x="29163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4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3" name="AutoShape 49"/>
          <p:cNvSpPr/>
          <p:nvPr/>
        </p:nvSpPr>
        <p:spPr>
          <a:xfrm>
            <a:off x="421164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5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AutoShape 50"/>
          <p:cNvSpPr/>
          <p:nvPr/>
        </p:nvSpPr>
        <p:spPr>
          <a:xfrm>
            <a:off x="550548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6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5" name="AutoShape 51"/>
          <p:cNvSpPr/>
          <p:nvPr/>
        </p:nvSpPr>
        <p:spPr>
          <a:xfrm>
            <a:off x="6800760" y="90792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7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6" name="AutoShape 52"/>
          <p:cNvSpPr/>
          <p:nvPr/>
        </p:nvSpPr>
        <p:spPr>
          <a:xfrm>
            <a:off x="6800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8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AutoShape 53"/>
          <p:cNvSpPr/>
          <p:nvPr/>
        </p:nvSpPr>
        <p:spPr>
          <a:xfrm>
            <a:off x="8024760" y="907920"/>
            <a:ext cx="1008000" cy="7207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30205" h="21600">
                <a:moveTo>
                  <a:pt x="0" y="0"/>
                </a:moveTo>
                <a:lnTo>
                  <a:pt x="30205" y="0"/>
                </a:lnTo>
                <a:lnTo>
                  <a:pt x="30205" y="21600"/>
                </a:lnTo>
                <a:lnTo>
                  <a:pt x="0" y="21600"/>
                </a:lnTo>
                <a:close/>
              </a:path>
              <a:path fill="lightenLess" w="30205" h="21600">
                <a:moveTo>
                  <a:pt x="0" y="0"/>
                </a:moveTo>
                <a:lnTo>
                  <a:pt x="30205" y="0"/>
                </a:lnTo>
                <a:lnTo>
                  <a:pt x="28806" y="1400"/>
                </a:lnTo>
                <a:lnTo>
                  <a:pt x="1400" y="1400"/>
                </a:lnTo>
                <a:close/>
              </a:path>
              <a:path fill="darken" w="30205" h="21600">
                <a:moveTo>
                  <a:pt x="30205" y="0"/>
                </a:moveTo>
                <a:lnTo>
                  <a:pt x="30205" y="21600"/>
                </a:lnTo>
                <a:lnTo>
                  <a:pt x="28806" y="20200"/>
                </a:lnTo>
                <a:lnTo>
                  <a:pt x="28806" y="1400"/>
                </a:lnTo>
                <a:close/>
              </a:path>
              <a:path fill="darkenLess" w="30205" h="21600">
                <a:moveTo>
                  <a:pt x="302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06" y="20200"/>
                </a:lnTo>
                <a:close/>
              </a:path>
              <a:path fill="lighten" w="302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19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AutoShape 54"/>
          <p:cNvSpPr/>
          <p:nvPr/>
        </p:nvSpPr>
        <p:spPr>
          <a:xfrm>
            <a:off x="8024760" y="2133720"/>
            <a:ext cx="1008000" cy="71892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30281" h="21600">
                <a:moveTo>
                  <a:pt x="0" y="0"/>
                </a:moveTo>
                <a:lnTo>
                  <a:pt x="30281" y="0"/>
                </a:lnTo>
                <a:lnTo>
                  <a:pt x="30281" y="21600"/>
                </a:lnTo>
                <a:lnTo>
                  <a:pt x="0" y="21600"/>
                </a:lnTo>
                <a:close/>
              </a:path>
              <a:path fill="lightenLess" w="30281" h="21600">
                <a:moveTo>
                  <a:pt x="0" y="0"/>
                </a:moveTo>
                <a:lnTo>
                  <a:pt x="30281" y="0"/>
                </a:lnTo>
                <a:lnTo>
                  <a:pt x="28881" y="1400"/>
                </a:lnTo>
                <a:lnTo>
                  <a:pt x="1400" y="1400"/>
                </a:lnTo>
                <a:close/>
              </a:path>
              <a:path fill="darken" w="30281" h="21600">
                <a:moveTo>
                  <a:pt x="30281" y="0"/>
                </a:moveTo>
                <a:lnTo>
                  <a:pt x="30281" y="21600"/>
                </a:lnTo>
                <a:lnTo>
                  <a:pt x="28881" y="20200"/>
                </a:lnTo>
                <a:lnTo>
                  <a:pt x="28881" y="1400"/>
                </a:lnTo>
                <a:close/>
              </a:path>
              <a:path fill="darkenLess" w="30281" h="21600">
                <a:moveTo>
                  <a:pt x="30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1" y="20200"/>
                </a:lnTo>
                <a:close/>
              </a:path>
              <a:path fill="lighten" w="30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0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AutoShape 55"/>
          <p:cNvSpPr/>
          <p:nvPr/>
        </p:nvSpPr>
        <p:spPr>
          <a:xfrm>
            <a:off x="29163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1" action="ppaction://hlinksldjump"/>
              </a:rPr>
              <a:t>1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0" name="AutoShape 56"/>
          <p:cNvSpPr/>
          <p:nvPr/>
        </p:nvSpPr>
        <p:spPr>
          <a:xfrm>
            <a:off x="421164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2" action="ppaction://hlinksldjump"/>
              </a:rPr>
              <a:t>2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1" name="AutoShape 57"/>
          <p:cNvSpPr/>
          <p:nvPr/>
        </p:nvSpPr>
        <p:spPr>
          <a:xfrm>
            <a:off x="550548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3" action="ppaction://hlinksldjump"/>
              </a:rPr>
              <a:t>3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58"/>
          <p:cNvSpPr/>
          <p:nvPr/>
        </p:nvSpPr>
        <p:spPr>
          <a:xfrm>
            <a:off x="6800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4" action="ppaction://hlinksldjump"/>
              </a:rPr>
              <a:t>4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59"/>
          <p:cNvSpPr/>
          <p:nvPr/>
        </p:nvSpPr>
        <p:spPr>
          <a:xfrm>
            <a:off x="8024760" y="5805360"/>
            <a:ext cx="1008000" cy="719280"/>
          </a:xfrm>
          <a:custGeom>
            <a:avLst/>
            <a:gdLst>
              <a:gd name="textAreaLeft" fmla="*/ 46440 w 1008000"/>
              <a:gd name="textAreaRight" fmla="*/ 961560 w 1008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6699"/>
                </a:solidFill>
                <a:uFillTx/>
                <a:latin typeface="Verdana"/>
                <a:hlinkClick r:id="rId25" action="ppaction://hlinksldjump"/>
              </a:rPr>
              <a:t>500</a:t>
            </a: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58920" y="76500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и не регулярном питании выделяется желудочный сок с повышенной кислотностью, что приводит к 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ой источник белка рекомендуется употреблять для профилактики инсульта и других сердечнососудистых заболеваний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азовите элементы здорового образа жизни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А) двигательный режим, закаливание, личная и общественная гигиен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Б) рациональное питание, гигиена труда и отдыха, гармонизация психоэмоциональных взаимоотношений в коллектив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) все перечисленное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00000" y="620640"/>
            <a:ext cx="7197840" cy="539928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Суточная норма шагов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в день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TextBox 9"/>
          <p:cNvSpPr/>
          <p:nvPr/>
        </p:nvSpPr>
        <p:spPr>
          <a:xfrm>
            <a:off x="1403280" y="1916280"/>
            <a:ext cx="59770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Rectangle 6"/>
          <p:cNvSpPr/>
          <p:nvPr/>
        </p:nvSpPr>
        <p:spPr>
          <a:xfrm>
            <a:off x="1332000" y="2207520"/>
            <a:ext cx="6335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амое простое и самое эффективное упражнение от которого все органы и ткани организма  лучше снабжаются кислородом и улучшается кровообращение?</a:t>
            </a:r>
            <a:endParaRPr b="1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одолжить поговорку: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здоровом теле, здоровый…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Упражнение развивающая силу ру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ля остановки носового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кровотечения нужно: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Запрокинуть голову вверх и зажать нос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Наклонить голову вперед и прижать ноздри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ложить холод к переносице 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Первые признаки инсульта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ызов скорой помощи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ационарный теле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илай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отив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ТС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егафон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Единый номер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0920" y="836640"/>
            <a:ext cx="8207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10920" y="1773000"/>
            <a:ext cx="787068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971640" y="71928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500</a:t>
            </a:r>
            <a:endParaRPr b="1" lang="en-US" sz="40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ЭТОТ русский полководец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 детстве был слабым ребенком, но прекрасно себя закалил. Сначала он парился в бане, а затем выливал на себя 10 ведер холодной воды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649440"/>
          </a:xfrm>
          <a:custGeom>
            <a:avLst/>
            <a:gdLst>
              <a:gd name="textAreaLeft" fmla="*/ 41760 w 1800000"/>
              <a:gd name="textAreaRight" fmla="*/ 1758240 w 1800000"/>
              <a:gd name="textAreaTop" fmla="*/ 41760 h 649440"/>
              <a:gd name="textAreaBottom" fmla="*/ 607680 h 649440"/>
            </a:gdLst>
            <a:ahLst/>
            <a:rect l="textAreaLeft" t="textAreaTop" r="textAreaRight" b="textAreaBottom"/>
            <a:pathLst>
              <a:path w="59846" h="21600">
                <a:moveTo>
                  <a:pt x="0" y="0"/>
                </a:moveTo>
                <a:lnTo>
                  <a:pt x="59846" y="0"/>
                </a:lnTo>
                <a:lnTo>
                  <a:pt x="59846" y="21600"/>
                </a:lnTo>
                <a:lnTo>
                  <a:pt x="0" y="21600"/>
                </a:lnTo>
                <a:close/>
              </a:path>
              <a:path fill="lightenLess" w="59846" h="21600">
                <a:moveTo>
                  <a:pt x="0" y="0"/>
                </a:moveTo>
                <a:lnTo>
                  <a:pt x="59846" y="0"/>
                </a:lnTo>
                <a:lnTo>
                  <a:pt x="58446" y="1400"/>
                </a:lnTo>
                <a:lnTo>
                  <a:pt x="1400" y="1400"/>
                </a:lnTo>
                <a:close/>
              </a:path>
              <a:path fill="darken" w="59846" h="21600">
                <a:moveTo>
                  <a:pt x="59846" y="0"/>
                </a:moveTo>
                <a:lnTo>
                  <a:pt x="59846" y="21600"/>
                </a:lnTo>
                <a:lnTo>
                  <a:pt x="58446" y="20200"/>
                </a:lnTo>
                <a:lnTo>
                  <a:pt x="58446" y="1400"/>
                </a:lnTo>
                <a:close/>
              </a:path>
              <a:path fill="darkenLess" w="59846" h="21600">
                <a:moveTo>
                  <a:pt x="598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46" y="20200"/>
                </a:lnTo>
                <a:close/>
              </a:path>
              <a:path fill="lighten" w="598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846" h="21600">
                <a:moveTo>
                  <a:pt x="26424" y="10800"/>
                </a:moveTo>
                <a:lnTo>
                  <a:pt x="36929" y="3794"/>
                </a:lnTo>
                <a:lnTo>
                  <a:pt x="36929" y="17806"/>
                </a:lnTo>
                <a:close/>
              </a:path>
              <a:path fill="darken" w="59846" h="21600">
                <a:moveTo>
                  <a:pt x="22916" y="3794"/>
                </a:moveTo>
                <a:lnTo>
                  <a:pt x="24579" y="3794"/>
                </a:lnTo>
                <a:lnTo>
                  <a:pt x="24579" y="17806"/>
                </a:lnTo>
                <a:lnTo>
                  <a:pt x="229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48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ри сильном ожоге появившиеся пузыри на коже следует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околоть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Смазать маслом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ложить стерильную повязку и обратиться к врачу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сли в течение 3 часов пострадавшему окажут помощь, то можно избежать таких серьезных последствий, как паралич и даже смерть. О каком диагнозе идет речь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Как вы считаете сколько кусочков сахара в одном стакане кока-кола ?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А) 4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) 7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) 12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0" name="AutoShape 4">
            <a:hlinkClick r:id="" action="ppaction://hlinkshowjump?jump=firstslide"/>
          </p:cNvPr>
          <p:cNvSpPr/>
          <p:nvPr/>
        </p:nvSpPr>
        <p:spPr>
          <a:xfrm>
            <a:off x="3708360" y="5013360"/>
            <a:ext cx="1800360" cy="720720"/>
          </a:xfrm>
          <a:custGeom>
            <a:avLst/>
            <a:gdLst>
              <a:gd name="textAreaLeft" fmla="*/ 46440 w 1800360"/>
              <a:gd name="textAreaRight" fmla="*/ 1753920 w 1800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41" h="21600">
                <a:moveTo>
                  <a:pt x="0" y="0"/>
                </a:moveTo>
                <a:lnTo>
                  <a:pt x="53941" y="0"/>
                </a:lnTo>
                <a:lnTo>
                  <a:pt x="53941" y="21600"/>
                </a:lnTo>
                <a:lnTo>
                  <a:pt x="0" y="21600"/>
                </a:lnTo>
                <a:close/>
              </a:path>
              <a:path fill="lightenLess" w="53941" h="21600">
                <a:moveTo>
                  <a:pt x="0" y="0"/>
                </a:moveTo>
                <a:lnTo>
                  <a:pt x="53941" y="0"/>
                </a:lnTo>
                <a:lnTo>
                  <a:pt x="52541" y="1400"/>
                </a:lnTo>
                <a:lnTo>
                  <a:pt x="1400" y="1400"/>
                </a:lnTo>
                <a:close/>
              </a:path>
              <a:path fill="darken" w="53941" h="21600">
                <a:moveTo>
                  <a:pt x="53941" y="0"/>
                </a:moveTo>
                <a:lnTo>
                  <a:pt x="53941" y="21600"/>
                </a:lnTo>
                <a:lnTo>
                  <a:pt x="52541" y="20200"/>
                </a:lnTo>
                <a:lnTo>
                  <a:pt x="52541" y="1400"/>
                </a:lnTo>
                <a:close/>
              </a:path>
              <a:path fill="darkenLess" w="53941" h="21600">
                <a:moveTo>
                  <a:pt x="539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1" y="20200"/>
                </a:lnTo>
                <a:close/>
              </a:path>
              <a:path fill="lighten" w="539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1" h="21600">
                <a:moveTo>
                  <a:pt x="23471" y="10800"/>
                </a:moveTo>
                <a:lnTo>
                  <a:pt x="33977" y="3794"/>
                </a:lnTo>
                <a:lnTo>
                  <a:pt x="33977" y="17806"/>
                </a:lnTo>
                <a:close/>
              </a:path>
              <a:path fill="darken" w="53941" h="21600">
                <a:moveTo>
                  <a:pt x="19964" y="3794"/>
                </a:moveTo>
                <a:lnTo>
                  <a:pt x="21626" y="3794"/>
                </a:lnTo>
                <a:lnTo>
                  <a:pt x="21626" y="17806"/>
                </a:lnTo>
                <a:lnTo>
                  <a:pt x="19964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На сколько лет сокращает свою жизнь человек, употребляющий алкоголь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1) На 3-6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2) На 10-20 ле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3) На 30-50 лет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Эта вредная привычка способствует необратимым нарушениям работы головного мозга и разрушению его клето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5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Жирная и копченая пища вредят работе сердца и сосудов, потому что в них содержатся канцерогены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А какая вредная привычка способствует увеличению канцерогенов в организме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00000" y="718920"/>
            <a:ext cx="719784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Чем грозит курение молодому растущему организму?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то такое гиподинамия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Чем она опасна?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0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3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Назовите максимальное время работы за компьютером в день для подростков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14 лет, 15 лет, 16 ле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3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 ЭТОТ день отмечается Всемирный день здоровья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Verdana"/>
              </a:rPr>
              <a:t>2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Сколько часов в сутки должен спать человек?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зрослый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одросток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ебенок  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200 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Georgia"/>
              </a:rPr>
              <a:t>Этот овощ на 95% состоит из воды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2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               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1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уточная норам овощей и фруктов в граммах?</a:t>
            </a:r>
            <a:endParaRPr b="0" lang="en-US" sz="4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5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71280" y="718920"/>
            <a:ext cx="7197480" cy="539892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  </a:t>
            </a:r>
            <a:r>
              <a:rPr b="1" lang="ru-RU" sz="4000" spc="-1" strike="noStrike">
                <a:solidFill>
                  <a:srgbClr val="3366ff"/>
                </a:solidFill>
                <a:latin typeface="Georgia"/>
              </a:rPr>
              <a:t>400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Georgia"/>
              </a:rPr>
              <a:t>	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AutoShape 4">
            <a:hlinkClick r:id="" action="ppaction://hlinkshowjump?jump=firstslide"/>
          </p:cNvPr>
          <p:cNvSpPr/>
          <p:nvPr/>
        </p:nvSpPr>
        <p:spPr>
          <a:xfrm>
            <a:off x="3598920" y="5397480"/>
            <a:ext cx="1800000" cy="720720"/>
          </a:xfrm>
          <a:custGeom>
            <a:avLst/>
            <a:gdLst>
              <a:gd name="textAreaLeft" fmla="*/ 46440 w 1800000"/>
              <a:gd name="textAreaRight" fmla="*/ 1753560 w 180000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53930" h="21600">
                <a:moveTo>
                  <a:pt x="0" y="0"/>
                </a:moveTo>
                <a:lnTo>
                  <a:pt x="53930" y="0"/>
                </a:lnTo>
                <a:lnTo>
                  <a:pt x="53930" y="21600"/>
                </a:lnTo>
                <a:lnTo>
                  <a:pt x="0" y="21600"/>
                </a:lnTo>
                <a:close/>
              </a:path>
              <a:path fill="lightenLess" w="53930" h="21600">
                <a:moveTo>
                  <a:pt x="0" y="0"/>
                </a:moveTo>
                <a:lnTo>
                  <a:pt x="53930" y="0"/>
                </a:lnTo>
                <a:lnTo>
                  <a:pt x="52530" y="1400"/>
                </a:lnTo>
                <a:lnTo>
                  <a:pt x="1400" y="1400"/>
                </a:lnTo>
                <a:close/>
              </a:path>
              <a:path fill="darken" w="53930" h="21600">
                <a:moveTo>
                  <a:pt x="53930" y="0"/>
                </a:moveTo>
                <a:lnTo>
                  <a:pt x="53930" y="21600"/>
                </a:lnTo>
                <a:lnTo>
                  <a:pt x="52530" y="20200"/>
                </a:lnTo>
                <a:lnTo>
                  <a:pt x="52530" y="1400"/>
                </a:lnTo>
                <a:close/>
              </a:path>
              <a:path fill="darkenLess" w="53930" h="21600">
                <a:moveTo>
                  <a:pt x="53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30" y="20200"/>
                </a:lnTo>
                <a:close/>
              </a:path>
              <a:path fill="lighten" w="53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30" h="21600">
                <a:moveTo>
                  <a:pt x="23466" y="10800"/>
                </a:moveTo>
                <a:lnTo>
                  <a:pt x="33971" y="3794"/>
                </a:lnTo>
                <a:lnTo>
                  <a:pt x="33971" y="17806"/>
                </a:lnTo>
                <a:close/>
              </a:path>
              <a:path fill="darken" w="53930" h="21600">
                <a:moveTo>
                  <a:pt x="19958" y="3794"/>
                </a:moveTo>
                <a:lnTo>
                  <a:pt x="21621" y="3794"/>
                </a:lnTo>
                <a:lnTo>
                  <a:pt x="21621" y="17806"/>
                </a:lnTo>
                <a:lnTo>
                  <a:pt x="19958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619280" y="1916280"/>
            <a:ext cx="61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Этот продукт присутствует в нашем рационе  каждый день. Одно из названий этого продукта по-французски означает «палка». Другое образовано от польского bulla — круглая печать Папы Римского для особо секретных документов. </a:t>
            </a:r>
            <a:endParaRPr b="1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9T08:40:23Z</dcterms:created>
  <dc:creator>No name</dc:creator>
  <dc:description/>
  <dc:language>en-US</dc:language>
  <cp:lastModifiedBy>Черемицына Юлия Игоревна</cp:lastModifiedBy>
  <cp:lastPrinted>2017-09-20T07:44:22Z</cp:lastPrinted>
  <dcterms:modified xsi:type="dcterms:W3CDTF">2017-09-20T07:44:49Z</dcterms:modified>
  <cp:revision>58</cp:revision>
  <dc:subject/>
  <dc:title>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